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A87-7878-4C13-9FFD-8C4D99FF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7C9-0B49-49E5-B222-DE1DD40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5FC-6129-4977-A609-7ED84E6A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D7D-E6F8-44B1-9C0F-34D58F70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397-91B8-4667-9B16-FF40639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314-3FD4-455E-82BF-4C1B3BF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5E8-A6DD-437B-87D6-4065D21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C98-CC11-4B55-A503-53CF8462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89D-5F52-49BC-833B-7BDD9E3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1E6-3A75-4B39-8F2D-1960926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721-AB07-4E6E-9F52-087385C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666-9FF1-4925-883E-9507F61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A5790-489B-4553-B663-2DB7CC19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G. Project Venon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S cracked SU sp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essages between Moscow and US read; &gt;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= confirmation spying exi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vealed 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H. The Red Scare Spread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ther groups begin to investigate for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Taft-Hartley Act,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Red S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McCarthyism and it's effects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how the Cold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. New Red Scar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gan September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gor Gouz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Revealed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Sovi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Main goal: Inf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. Loyalty Review Progra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ablished in 1947 by 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 federal employees scre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ore than 6 mil employees scre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14,000 employees were subject to investigation by the F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. House of Un-American Activities Committee (HUAC)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rmed in 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osed both Communists and Communist sympath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BI agents sent into different groups and phones wiret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D. Hollywood on Tria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irst HUAC hearing took on film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onald Reagan testified that Communists were in Holly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“Hollywood T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id not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lacklisted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llyw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45036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3440" y="122400"/>
            <a:ext cx="9917280" cy="74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. Alger His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ccused of spying for Sovie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nvicted of perjury; sent to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ursued by congressman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F. The Rosenberg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embers of Americ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nvicted of giving info to SU re: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ecuted by electro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1603440"/>
            <a:ext cx="45720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8:02:49Z</dcterms:created>
  <dc:creator>Courtney Huro</dc:creator>
  <dc:description>Presentation Layout Template</dc:description>
  <dc:language>en-US</dc:language>
  <cp:lastModifiedBy>School District U46</cp:lastModifiedBy>
  <dcterms:modified xsi:type="dcterms:W3CDTF">2011-02-24T13:25:25Z</dcterms:modified>
  <cp:revision>4</cp:revision>
  <dc:subject/>
  <dc:title>Technical Polygon</dc:title>
</cp:coreProperties>
</file>